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0" y="9466920"/>
            <a:ext cx="290052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3374DEDE-C49C-4EE3-AA5A-3F1FAE8E38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5189400" y="2835360"/>
            <a:ext cx="304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900000" y="76032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900000" y="76032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900000" y="76032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Evolutsioonis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eh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kuidas ühiskond toimib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ja miks inimesed just nii mõtleva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0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lackmore tähelepaneku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861480"/>
            <a:ext cx="7848720" cy="62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line kõne levib kaugemale kui kehamär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itatsioonioskus aitab meemidel arene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itatsioonioskus areneb ise geneetili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enide-meemide koosevolutsioon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app 1: imiteerimine. Imiteeri paremat tööriistavalmistajat: geneetiline edu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app 2: Imiteeri paremat imiteerij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app 3: selektsioon parema imitaatoriga paaritumise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m meemide teenistus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mi geneetiline efek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mi ühiskondlik efek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tlikud inimesed paremad meemilevitaj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süühika enne ja nüü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6640" y="631440"/>
            <a:ext cx="7848720" cy="62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ne: psüühika kui liigi evolutsiooni vahe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egu: psüühika kui ühiskonna evolutsiooni vahe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volutsiooni suured hüpp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amad olendi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tud lihtsamate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98320" y="4187880"/>
            <a:ext cx="2091240" cy="355680"/>
            <a:chOff x="598320" y="4187880"/>
            <a:chExt cx="2091240" cy="355680"/>
          </a:xfrm>
        </p:grpSpPr>
        <p:sp>
          <p:nvSpPr>
            <p:cNvPr id="114" name=""/>
            <p:cNvSpPr/>
            <p:nvPr/>
          </p:nvSpPr>
          <p:spPr>
            <a:xfrm>
              <a:off x="598320" y="4187880"/>
              <a:ext cx="157176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8320" y="4187880"/>
              <a:ext cx="2091240" cy="355680"/>
              <a:chOff x="598320" y="4187880"/>
              <a:chExt cx="2091240" cy="3556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8320" y="4187880"/>
                <a:ext cx="157176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160" y="4187880"/>
                <a:ext cx="196740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Lihtpaljunej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273480" y="4187880"/>
            <a:ext cx="1652400" cy="355680"/>
            <a:chOff x="3273480" y="4187880"/>
            <a:chExt cx="1652400" cy="355680"/>
          </a:xfrm>
        </p:grpSpPr>
        <p:sp>
          <p:nvSpPr>
            <p:cNvPr id="119" name=""/>
            <p:cNvSpPr/>
            <p:nvPr/>
          </p:nvSpPr>
          <p:spPr>
            <a:xfrm>
              <a:off x="3273480" y="4187880"/>
              <a:ext cx="124776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273480" y="4187880"/>
              <a:ext cx="1652400" cy="355680"/>
              <a:chOff x="3273480" y="4187880"/>
              <a:chExt cx="1652400" cy="35568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4187880"/>
                <a:ext cx="124776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00560" y="4187880"/>
                <a:ext cx="152532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Ainurak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5665680" y="4164120"/>
            <a:ext cx="1661760" cy="355680"/>
            <a:chOff x="5665680" y="4164120"/>
            <a:chExt cx="1661760" cy="355680"/>
          </a:xfrm>
        </p:grpSpPr>
        <p:sp>
          <p:nvSpPr>
            <p:cNvPr id="124" name=""/>
            <p:cNvSpPr/>
            <p:nvPr/>
          </p:nvSpPr>
          <p:spPr>
            <a:xfrm>
              <a:off x="5665680" y="4164120"/>
              <a:ext cx="123840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665680" y="4164120"/>
              <a:ext cx="1661760" cy="355680"/>
              <a:chOff x="5665680" y="4164120"/>
              <a:chExt cx="1661760" cy="355680"/>
            </a:xfrm>
          </p:grpSpPr>
          <p:sp>
            <p:nvSpPr>
              <p:cNvPr id="126" name=""/>
              <p:cNvSpPr/>
              <p:nvPr/>
            </p:nvSpPr>
            <p:spPr>
              <a:xfrm>
                <a:off x="5665680" y="4164120"/>
                <a:ext cx="123840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83760" y="4164120"/>
                <a:ext cx="154368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Hulkrak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674800" y="4299120"/>
            <a:ext cx="354240" cy="144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30640" y="4324320"/>
            <a:ext cx="354240" cy="144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26360" y="4297320"/>
            <a:ext cx="353880" cy="180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88320" y="4114800"/>
            <a:ext cx="235800" cy="385920"/>
            <a:chOff x="7888320" y="4114800"/>
            <a:chExt cx="235800" cy="385920"/>
          </a:xfrm>
        </p:grpSpPr>
        <p:sp>
          <p:nvSpPr>
            <p:cNvPr id="132" name=""/>
            <p:cNvSpPr/>
            <p:nvPr/>
          </p:nvSpPr>
          <p:spPr>
            <a:xfrm>
              <a:off x="7888320" y="4114800"/>
              <a:ext cx="228600" cy="3859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385920"/>
                <a:gd name="textAreaBottom" fmla="*/ 385560 h 385920"/>
              </a:gdLst>
              <a:ahLst/>
              <a:rect l="textAreaLeft" t="textAreaTop" r="textAreaRight" b="textAreaBottom"/>
              <a:pathLst>
                <a:path w="21600" h="36442">
                  <a:moveTo>
                    <a:pt x="150" y="0"/>
                  </a:moveTo>
                  <a:arcTo wR="150" hR="150" stAng="16200000" swAng="-5400000"/>
                  <a:lnTo>
                    <a:pt x="0" y="36292"/>
                  </a:lnTo>
                  <a:arcTo wR="150" hR="150" stAng="10800000" swAng="-5400000"/>
                  <a:lnTo>
                    <a:pt x="21450" y="36442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888320" y="4114800"/>
              <a:ext cx="235800" cy="385920"/>
              <a:chOff x="7888320" y="4114800"/>
              <a:chExt cx="235800" cy="385920"/>
            </a:xfrm>
          </p:grpSpPr>
          <p:sp>
            <p:nvSpPr>
              <p:cNvPr id="134" name=""/>
              <p:cNvSpPr/>
              <p:nvPr/>
            </p:nvSpPr>
            <p:spPr>
              <a:xfrm>
                <a:off x="7888320" y="4114800"/>
                <a:ext cx="228600" cy="385920"/>
              </a:xfrm>
              <a:custGeom>
                <a:avLst/>
                <a:gdLst>
                  <a:gd name="textAreaLeft" fmla="*/ 360 w 228600"/>
                  <a:gd name="textAreaRight" fmla="*/ 228240 w 228600"/>
                  <a:gd name="textAreaTop" fmla="*/ 360 h 385920"/>
                  <a:gd name="textAreaBottom" fmla="*/ 385560 h 385920"/>
                </a:gdLst>
                <a:ahLst/>
                <a:rect l="textAreaLeft" t="textAreaTop" r="textAreaRight" b="textAreaBottom"/>
                <a:pathLst>
                  <a:path w="21600" h="36442">
                    <a:moveTo>
                      <a:pt x="150" y="0"/>
                    </a:moveTo>
                    <a:arcTo wR="150" hR="150" stAng="16200000" swAng="-5400000"/>
                    <a:lnTo>
                      <a:pt x="0" y="36292"/>
                    </a:lnTo>
                    <a:arcTo wR="150" hR="150" stAng="10800000" swAng="-5400000"/>
                    <a:lnTo>
                      <a:pt x="21450" y="36442"/>
                    </a:lnTo>
                    <a:arcTo wR="150" hR="150" stAng="5400000" swAng="-5400000"/>
                    <a:lnTo>
                      <a:pt x="21600" y="150"/>
                    </a:lnTo>
                    <a:arcTo wR="150" hR="15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94080" y="4114800"/>
                <a:ext cx="230040" cy="355680"/>
              </a:xfrm>
              <a:custGeom>
                <a:avLst/>
                <a:gdLst>
                  <a:gd name="textAreaLeft" fmla="*/ 360 w 230040"/>
                  <a:gd name="textAreaRight" fmla="*/ 229680 w 230040"/>
                  <a:gd name="textAreaTop" fmla="*/ 360 h 355680"/>
                  <a:gd name="textAreaBottom" fmla="*/ 355320 h 355680"/>
                </a:gdLst>
                <a:ahLst/>
                <a:rect l="textAreaLeft" t="textAreaTop" r="textAreaRight" b="textAreaBottom"/>
                <a:pathLst>
                  <a:path w="21600" h="33379">
                    <a:moveTo>
                      <a:pt x="150" y="0"/>
                    </a:moveTo>
                    <a:arcTo wR="150" hR="150" stAng="16200000" swAng="-5400000"/>
                    <a:lnTo>
                      <a:pt x="0" y="33229"/>
                    </a:lnTo>
                    <a:arcTo wR="150" hR="150" stAng="10800000" swAng="-5400000"/>
                    <a:lnTo>
                      <a:pt x="21450" y="33379"/>
                    </a:lnTo>
                    <a:arcTo wR="150" hR="150" stAng="5400000" swAng="-5400000"/>
                    <a:lnTo>
                      <a:pt x="21600" y="150"/>
                    </a:lnTo>
                    <a:arcTo wR="150" hR="15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66840" y="3481560"/>
            <a:ext cx="1346040" cy="355680"/>
            <a:chOff x="366840" y="3481560"/>
            <a:chExt cx="1346040" cy="355680"/>
          </a:xfrm>
        </p:grpSpPr>
        <p:sp>
          <p:nvSpPr>
            <p:cNvPr id="137" name=""/>
            <p:cNvSpPr/>
            <p:nvPr/>
          </p:nvSpPr>
          <p:spPr>
            <a:xfrm>
              <a:off x="366840" y="3481560"/>
              <a:ext cx="86652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66840" y="3481560"/>
              <a:ext cx="1346040" cy="355680"/>
              <a:chOff x="366840" y="3481560"/>
              <a:chExt cx="1346040" cy="355680"/>
            </a:xfrm>
          </p:grpSpPr>
          <p:sp>
            <p:nvSpPr>
              <p:cNvPr id="139" name=""/>
              <p:cNvSpPr/>
              <p:nvPr/>
            </p:nvSpPr>
            <p:spPr>
              <a:xfrm>
                <a:off x="366840" y="3481560"/>
                <a:ext cx="86652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9240" y="3481560"/>
                <a:ext cx="122364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eptiidid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5238720" y="3127320"/>
            <a:ext cx="920160" cy="355680"/>
            <a:chOff x="5238720" y="3127320"/>
            <a:chExt cx="920160" cy="355680"/>
          </a:xfrm>
        </p:grpSpPr>
        <p:sp>
          <p:nvSpPr>
            <p:cNvPr id="142" name=""/>
            <p:cNvSpPr/>
            <p:nvPr/>
          </p:nvSpPr>
          <p:spPr>
            <a:xfrm>
              <a:off x="5238720" y="3127320"/>
              <a:ext cx="76212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238720" y="3127320"/>
              <a:ext cx="920160" cy="355680"/>
              <a:chOff x="5238720" y="3127320"/>
              <a:chExt cx="920160" cy="355680"/>
            </a:xfrm>
          </p:grpSpPr>
          <p:sp>
            <p:nvSpPr>
              <p:cNvPr id="144" name=""/>
              <p:cNvSpPr/>
              <p:nvPr/>
            </p:nvSpPr>
            <p:spPr>
              <a:xfrm>
                <a:off x="5238720" y="3127320"/>
                <a:ext cx="76212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25480" y="3127320"/>
                <a:ext cx="83340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taim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5654520" y="2846520"/>
            <a:ext cx="1004040" cy="355680"/>
            <a:chOff x="5654520" y="2846520"/>
            <a:chExt cx="1004040" cy="355680"/>
          </a:xfrm>
        </p:grpSpPr>
        <p:sp>
          <p:nvSpPr>
            <p:cNvPr id="147" name=""/>
            <p:cNvSpPr/>
            <p:nvPr/>
          </p:nvSpPr>
          <p:spPr>
            <a:xfrm>
              <a:off x="5654520" y="2846520"/>
              <a:ext cx="80028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5654520" y="2846520"/>
              <a:ext cx="1004040" cy="355680"/>
              <a:chOff x="5654520" y="2846520"/>
              <a:chExt cx="1004040" cy="355680"/>
            </a:xfrm>
          </p:grpSpPr>
          <p:sp>
            <p:nvSpPr>
              <p:cNvPr id="149" name=""/>
              <p:cNvSpPr/>
              <p:nvPr/>
            </p:nvSpPr>
            <p:spPr>
              <a:xfrm>
                <a:off x="5654520" y="2846520"/>
                <a:ext cx="80028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41280" y="2846520"/>
                <a:ext cx="91728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loom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5875200" y="2552760"/>
            <a:ext cx="1681200" cy="355680"/>
            <a:chOff x="5875200" y="2552760"/>
            <a:chExt cx="1681200" cy="355680"/>
          </a:xfrm>
        </p:grpSpPr>
        <p:sp>
          <p:nvSpPr>
            <p:cNvPr id="152" name=""/>
            <p:cNvSpPr/>
            <p:nvPr/>
          </p:nvSpPr>
          <p:spPr>
            <a:xfrm>
              <a:off x="5875200" y="2552760"/>
              <a:ext cx="136224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875200" y="2552760"/>
              <a:ext cx="1681200" cy="355680"/>
              <a:chOff x="5875200" y="2552760"/>
              <a:chExt cx="1681200" cy="355680"/>
            </a:xfrm>
          </p:grpSpPr>
          <p:sp>
            <p:nvSpPr>
              <p:cNvPr id="154" name=""/>
              <p:cNvSpPr/>
              <p:nvPr/>
            </p:nvSpPr>
            <p:spPr>
              <a:xfrm>
                <a:off x="5875200" y="2552760"/>
                <a:ext cx="136224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27840" y="2552760"/>
                <a:ext cx="152856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arjaloom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6326280" y="2260440"/>
            <a:ext cx="1210320" cy="355680"/>
            <a:chOff x="6326280" y="2260440"/>
            <a:chExt cx="1210320" cy="355680"/>
          </a:xfrm>
        </p:grpSpPr>
        <p:sp>
          <p:nvSpPr>
            <p:cNvPr id="157" name=""/>
            <p:cNvSpPr/>
            <p:nvPr/>
          </p:nvSpPr>
          <p:spPr>
            <a:xfrm>
              <a:off x="6326280" y="2260440"/>
              <a:ext cx="98100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326280" y="2260440"/>
              <a:ext cx="1210320" cy="355680"/>
              <a:chOff x="6326280" y="2260440"/>
              <a:chExt cx="1210320" cy="355680"/>
            </a:xfrm>
          </p:grpSpPr>
          <p:sp>
            <p:nvSpPr>
              <p:cNvPr id="159" name=""/>
              <p:cNvSpPr/>
              <p:nvPr/>
            </p:nvSpPr>
            <p:spPr>
              <a:xfrm>
                <a:off x="6326280" y="2260440"/>
                <a:ext cx="98100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31760" y="2260440"/>
                <a:ext cx="110484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inime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4213080" y="2112840"/>
            <a:ext cx="1332000" cy="80640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140360" y="1393920"/>
            <a:ext cx="1780920" cy="236880"/>
            <a:chOff x="4140360" y="1393920"/>
            <a:chExt cx="1780920" cy="236880"/>
          </a:xfrm>
        </p:grpSpPr>
        <p:sp>
          <p:nvSpPr>
            <p:cNvPr id="163" name=""/>
            <p:cNvSpPr/>
            <p:nvPr/>
          </p:nvSpPr>
          <p:spPr>
            <a:xfrm>
              <a:off x="4140360" y="1393920"/>
              <a:ext cx="1780920" cy="226800"/>
            </a:xfrm>
            <a:prstGeom prst="roundRect">
              <a:avLst>
                <a:gd name="adj" fmla="val 7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140360" y="1393920"/>
              <a:ext cx="1780920" cy="236880"/>
              <a:chOff x="4140360" y="1393920"/>
              <a:chExt cx="1780920" cy="236880"/>
            </a:xfrm>
          </p:grpSpPr>
          <p:sp>
            <p:nvSpPr>
              <p:cNvPr id="165" name=""/>
              <p:cNvSpPr/>
              <p:nvPr/>
            </p:nvSpPr>
            <p:spPr>
              <a:xfrm>
                <a:off x="4140360" y="1393920"/>
                <a:ext cx="178092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72480" y="1393920"/>
                <a:ext cx="1437120" cy="23688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kommunikatsio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5240160" y="3127320"/>
            <a:ext cx="920160" cy="355680"/>
            <a:chOff x="5240160" y="3127320"/>
            <a:chExt cx="920160" cy="355680"/>
          </a:xfrm>
        </p:grpSpPr>
        <p:sp>
          <p:nvSpPr>
            <p:cNvPr id="168" name=""/>
            <p:cNvSpPr/>
            <p:nvPr/>
          </p:nvSpPr>
          <p:spPr>
            <a:xfrm>
              <a:off x="5240160" y="3127320"/>
              <a:ext cx="76212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240160" y="3127320"/>
              <a:ext cx="920160" cy="355680"/>
              <a:chOff x="5240160" y="3127320"/>
              <a:chExt cx="920160" cy="355680"/>
            </a:xfrm>
          </p:grpSpPr>
          <p:sp>
            <p:nvSpPr>
              <p:cNvPr id="170" name=""/>
              <p:cNvSpPr/>
              <p:nvPr/>
            </p:nvSpPr>
            <p:spPr>
              <a:xfrm>
                <a:off x="5240160" y="3127320"/>
                <a:ext cx="76212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26920" y="3127320"/>
                <a:ext cx="83340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taim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3102120" y="1808280"/>
            <a:ext cx="1352520" cy="236880"/>
            <a:chOff x="3102120" y="1808280"/>
            <a:chExt cx="1352520" cy="236880"/>
          </a:xfrm>
        </p:grpSpPr>
        <p:sp>
          <p:nvSpPr>
            <p:cNvPr id="173" name=""/>
            <p:cNvSpPr/>
            <p:nvPr/>
          </p:nvSpPr>
          <p:spPr>
            <a:xfrm>
              <a:off x="3102120" y="1808280"/>
              <a:ext cx="1352520" cy="226800"/>
            </a:xfrm>
            <a:prstGeom prst="roundRect">
              <a:avLst>
                <a:gd name="adj" fmla="val 7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02120" y="1808280"/>
              <a:ext cx="1352520" cy="236880"/>
              <a:chOff x="3102120" y="1808280"/>
              <a:chExt cx="1352520" cy="236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102120" y="1808280"/>
                <a:ext cx="135252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02200" y="1808280"/>
                <a:ext cx="1074240" cy="23688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närvisüste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4933800" y="954000"/>
            <a:ext cx="2633040" cy="236880"/>
            <a:chOff x="4933800" y="954000"/>
            <a:chExt cx="2633040" cy="236880"/>
          </a:xfrm>
        </p:grpSpPr>
        <p:sp>
          <p:nvSpPr>
            <p:cNvPr id="178" name=""/>
            <p:cNvSpPr/>
            <p:nvPr/>
          </p:nvSpPr>
          <p:spPr>
            <a:xfrm>
              <a:off x="4933800" y="954000"/>
              <a:ext cx="1571760" cy="227160"/>
            </a:xfrm>
            <a:prstGeom prst="roundRect">
              <a:avLst>
                <a:gd name="adj" fmla="val 7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933800" y="954000"/>
              <a:ext cx="2633040" cy="236880"/>
              <a:chOff x="4933800" y="954000"/>
              <a:chExt cx="2633040" cy="236880"/>
            </a:xfrm>
          </p:grpSpPr>
          <p:sp>
            <p:nvSpPr>
              <p:cNvPr id="180" name=""/>
              <p:cNvSpPr/>
              <p:nvPr/>
            </p:nvSpPr>
            <p:spPr>
              <a:xfrm>
                <a:off x="4933800" y="954000"/>
                <a:ext cx="1571760" cy="22716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34680" y="954000"/>
                <a:ext cx="2432160" cy="23688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Abstraktsioonid ja mälupild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4884840" y="1623960"/>
            <a:ext cx="965160" cy="98892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85000" y="1185840"/>
            <a:ext cx="561960" cy="97632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33800" y="1514520"/>
            <a:ext cx="2332080" cy="2332080"/>
          </a:xfrm>
          <a:prstGeom prst="ellipse">
            <a:avLst/>
          </a:prstGeom>
          <a:noFill/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84600" y="2602080"/>
            <a:ext cx="2149200" cy="1233360"/>
          </a:xfrm>
          <a:prstGeom prst="ellipse">
            <a:avLst/>
          </a:prstGeom>
          <a:noFill/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4440" y="2857680"/>
            <a:ext cx="2308320" cy="990360"/>
          </a:xfrm>
          <a:prstGeom prst="ellipse">
            <a:avLst/>
          </a:prstGeom>
          <a:noFill/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41440" y="2994120"/>
            <a:ext cx="1076400" cy="355680"/>
            <a:chOff x="1441440" y="2994120"/>
            <a:chExt cx="1076400" cy="355680"/>
          </a:xfrm>
        </p:grpSpPr>
        <p:sp>
          <p:nvSpPr>
            <p:cNvPr id="188" name=""/>
            <p:cNvSpPr/>
            <p:nvPr/>
          </p:nvSpPr>
          <p:spPr>
            <a:xfrm>
              <a:off x="1441440" y="2994120"/>
              <a:ext cx="86688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441440" y="2994120"/>
              <a:ext cx="1076400" cy="355680"/>
              <a:chOff x="1441440" y="2994120"/>
              <a:chExt cx="1076400" cy="355680"/>
            </a:xfrm>
          </p:grpSpPr>
          <p:sp>
            <p:nvSpPr>
              <p:cNvPr id="190" name=""/>
              <p:cNvSpPr/>
              <p:nvPr/>
            </p:nvSpPr>
            <p:spPr>
              <a:xfrm>
                <a:off x="1441440" y="2994120"/>
                <a:ext cx="86688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31800" y="2994120"/>
                <a:ext cx="98604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iiru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647640" y="3213000"/>
            <a:ext cx="1435320" cy="355680"/>
            <a:chOff x="647640" y="3213000"/>
            <a:chExt cx="1435320" cy="355680"/>
          </a:xfrm>
        </p:grpSpPr>
        <p:sp>
          <p:nvSpPr>
            <p:cNvPr id="193" name=""/>
            <p:cNvSpPr/>
            <p:nvPr/>
          </p:nvSpPr>
          <p:spPr>
            <a:xfrm>
              <a:off x="647640" y="3213000"/>
              <a:ext cx="86688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47640" y="3213000"/>
              <a:ext cx="1435320" cy="355680"/>
              <a:chOff x="647640" y="3213000"/>
              <a:chExt cx="1435320" cy="355680"/>
            </a:xfrm>
          </p:grpSpPr>
          <p:sp>
            <p:nvSpPr>
              <p:cNvPr id="195" name=""/>
              <p:cNvSpPr/>
              <p:nvPr/>
            </p:nvSpPr>
            <p:spPr>
              <a:xfrm>
                <a:off x="647640" y="3213000"/>
                <a:ext cx="86688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6240" y="3213000"/>
                <a:ext cx="138672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RNA/D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3030480" y="3262320"/>
            <a:ext cx="2010240" cy="355680"/>
            <a:chOff x="3030480" y="3262320"/>
            <a:chExt cx="2010240" cy="355680"/>
          </a:xfrm>
        </p:grpSpPr>
        <p:sp>
          <p:nvSpPr>
            <p:cNvPr id="198" name=""/>
            <p:cNvSpPr/>
            <p:nvPr/>
          </p:nvSpPr>
          <p:spPr>
            <a:xfrm>
              <a:off x="3030480" y="3262320"/>
              <a:ext cx="86688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030480" y="3262320"/>
              <a:ext cx="2010240" cy="355680"/>
              <a:chOff x="3030480" y="3262320"/>
              <a:chExt cx="2010240" cy="355680"/>
            </a:xfrm>
          </p:grpSpPr>
          <p:sp>
            <p:nvSpPr>
              <p:cNvPr id="200" name=""/>
              <p:cNvSpPr/>
              <p:nvPr/>
            </p:nvSpPr>
            <p:spPr>
              <a:xfrm>
                <a:off x="3030480" y="3262320"/>
                <a:ext cx="86688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90680" y="3262320"/>
                <a:ext cx="185004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Archaebacter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3616200" y="2957400"/>
            <a:ext cx="1411200" cy="355680"/>
            <a:chOff x="3616200" y="2957400"/>
            <a:chExt cx="1411200" cy="355680"/>
          </a:xfrm>
        </p:grpSpPr>
        <p:sp>
          <p:nvSpPr>
            <p:cNvPr id="203" name=""/>
            <p:cNvSpPr/>
            <p:nvPr/>
          </p:nvSpPr>
          <p:spPr>
            <a:xfrm>
              <a:off x="3616200" y="2957400"/>
              <a:ext cx="86688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616200" y="2957400"/>
              <a:ext cx="1411200" cy="355680"/>
              <a:chOff x="3616200" y="2957400"/>
              <a:chExt cx="1411200" cy="355680"/>
            </a:xfrm>
          </p:grpSpPr>
          <p:sp>
            <p:nvSpPr>
              <p:cNvPr id="205" name=""/>
              <p:cNvSpPr/>
              <p:nvPr/>
            </p:nvSpPr>
            <p:spPr>
              <a:xfrm>
                <a:off x="3616200" y="2957400"/>
                <a:ext cx="86688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19880" y="2957400"/>
                <a:ext cx="130752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Eubacter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0480" y="4554360"/>
            <a:ext cx="3241800" cy="1697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92200" y="4832280"/>
            <a:ext cx="1428840" cy="1276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443560" y="4610160"/>
            <a:ext cx="327672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istuse teke: suhtlemine ja mälu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ne mõtlemine tekkis suhtlemisest ja keelest, mitte vastupidi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ne mõtlemine saab tekkida vaid karjaloomad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ne mõtlemine on evolutsiooni hiljutine saavutus ja seetõttu väga kehvasti arenenu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si organismis (sh aju sees) areneb olemasolevast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pisoodiline mälu tajutöötluse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 struktuur mälumisega tegelevatest ajuosade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73240" y="5165640"/>
            <a:ext cx="3329280" cy="152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se “mina” ja mõistus on haj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istusel ja “minal” ei ole keskust: kõik on mööda erinevaid ajustruktuure laial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saa olla “lihtsat” intellekti: mida keerukam intellekt, seda rohkem erinevaid kange ja hoobasid ja osi seal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sinas peab olem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inimesi, kellel on mi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aldiseisvat “mina”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a” võib olla aju erinevat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hhanismide (aju kui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) esindaja (president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iste olevustega suhtlemise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8800" y="2470320"/>
            <a:ext cx="3014640" cy="3562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9000" y="5292720"/>
            <a:ext cx="2599920" cy="651240"/>
          </a:xfrm>
          <a:prstGeom prst="roundRect">
            <a:avLst>
              <a:gd name="adj" fmla="val 29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imese aju k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omaette ühisk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05320" y="5029200"/>
            <a:ext cx="1752480" cy="1295280"/>
            <a:chOff x="3505320" y="5029200"/>
            <a:chExt cx="1752480" cy="1295280"/>
          </a:xfrm>
        </p:grpSpPr>
        <p:sp>
          <p:nvSpPr>
            <p:cNvPr id="218" name=""/>
            <p:cNvSpPr/>
            <p:nvPr/>
          </p:nvSpPr>
          <p:spPr>
            <a:xfrm>
              <a:off x="35053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811680" y="5029200"/>
              <a:ext cx="1217520" cy="1143000"/>
              <a:chOff x="3811680" y="5029200"/>
              <a:chExt cx="1217520" cy="1143000"/>
            </a:xfrm>
          </p:grpSpPr>
          <p:sp>
            <p:nvSpPr>
              <p:cNvPr id="220" name=""/>
              <p:cNvSpPr/>
              <p:nvPr/>
            </p:nvSpPr>
            <p:spPr>
              <a:xfrm flipV="1">
                <a:off x="4599000" y="53496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974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119480" y="5703480"/>
                <a:ext cx="1684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4805280" y="5029200"/>
                <a:ext cx="223920" cy="457200"/>
                <a:chOff x="4805280" y="5029200"/>
                <a:chExt cx="223920" cy="4572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52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869000" y="5164200"/>
                  <a:ext cx="2520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941720" y="5164200"/>
                  <a:ext cx="2412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560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348080" y="5257800"/>
                <a:ext cx="223920" cy="457200"/>
                <a:chOff x="4348080" y="5257800"/>
                <a:chExt cx="223920" cy="4572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3480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411800" y="5392800"/>
                  <a:ext cx="2520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84520" y="5392800"/>
                  <a:ext cx="2412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3988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811680" y="5100480"/>
                <a:ext cx="223920" cy="457200"/>
                <a:chOff x="3811680" y="5100480"/>
                <a:chExt cx="223920" cy="457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811680" y="51004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876840" y="52354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49560" y="523548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8624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890880" y="5715000"/>
                <a:ext cx="223920" cy="457200"/>
                <a:chOff x="3890880" y="5715000"/>
                <a:chExt cx="223920" cy="457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8908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54600" y="5850000"/>
                  <a:ext cx="2520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27320" y="5850000"/>
                  <a:ext cx="2412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416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35053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572000" y="5486400"/>
            <a:ext cx="914400" cy="914400"/>
          </a:xfrm>
          <a:custGeom>
            <a:avLst/>
            <a:gdLst/>
            <a:ahLst/>
            <a:rect l="l" t="t" r="r" b="b"/>
            <a:pathLst>
              <a:path w="2541" h="2541">
                <a:moveTo>
                  <a:pt x="1905" y="0"/>
                </a:moveTo>
                <a:lnTo>
                  <a:pt x="2540" y="1270"/>
                </a:lnTo>
                <a:lnTo>
                  <a:pt x="1270" y="1270"/>
                </a:lnTo>
                <a:lnTo>
                  <a:pt x="1270" y="1905"/>
                </a:lnTo>
                <a:lnTo>
                  <a:pt x="635" y="1905"/>
                </a:lnTo>
                <a:lnTo>
                  <a:pt x="1270" y="2540"/>
                </a:lnTo>
                <a:lnTo>
                  <a:pt x="0" y="2540"/>
                </a:lnTo>
                <a:lnTo>
                  <a:pt x="0" y="1905"/>
                </a:lnTo>
              </a:path>
            </a:pathLst>
          </a:custGeom>
          <a:noFill/>
          <a:ln w="54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75040" y="5548320"/>
            <a:ext cx="479520" cy="392040"/>
          </a:xfrm>
          <a:custGeom>
            <a:avLst/>
            <a:gdLst/>
            <a:ahLst/>
            <a:rect l="l" t="t" r="r" b="b"/>
            <a:pathLst>
              <a:path w="1332" h="1088">
                <a:moveTo>
                  <a:pt x="217" y="573"/>
                </a:moveTo>
                <a:cubicBezTo>
                  <a:pt x="507" y="645"/>
                  <a:pt x="1331" y="1087"/>
                  <a:pt x="1159" y="428"/>
                </a:cubicBezTo>
                <a:cubicBezTo>
                  <a:pt x="1048" y="0"/>
                  <a:pt x="295" y="99"/>
                  <a:pt x="0" y="428"/>
                </a:cubicBezTo>
                <a:lnTo>
                  <a:pt x="217" y="500"/>
                </a:lnTo>
                <a:lnTo>
                  <a:pt x="217" y="573"/>
                </a:lnTo>
              </a:path>
            </a:pathLst>
          </a:custGeom>
          <a:solidFill>
            <a:srgbClr val="0000ff"/>
          </a:solidFill>
          <a:ln w="3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istus on geneetika jaoks arengupid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istusega olendite karjas (ühiskonnas) asusid levima meem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idel on teised huvid, kui geenid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id ja abstraktne mõtlemine on tekitanu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raal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shoi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tsiaalab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e kõik on blokeerinud (vähemalt pidurdanud)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etilise arengu enam-mõistuslikemate olendite suuna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49640" y="3224160"/>
            <a:ext cx="1300320" cy="160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likkus on looma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“Peaasi, et kasvaks inimene”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likud” on: sotsiaalsus, suhtlemine, soojad väärtused,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likud” ei ole: külm kalkuleerimine, geniaalne matemaatika, jõhker börsihai,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ik “inimlik” on olemas k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rgematel  karjaloomad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line inimlikkus – see, mid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istes loomades ei ole - on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lm ja võõristav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03840" y="3448080"/>
            <a:ext cx="2906640" cy="287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on loomu poolest ühiskonna or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esed on geneetiliselt ehitatud  kommunikeerum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d on geneetiliselt ehitatud olema jutu abil juhitav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etilised norm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meetilised norm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ekond, sõbrad, tuttavad, kolleeg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 jne seovad meid sunnivahenditeg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motsioonid on üks peamisi hoobasi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tahab inimesest põhiliselt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ks üha rohkem töö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ks ettearvatav ja normeerit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a ei huvita üksiku inimese heaolu rohkem, kui inimest tema üksiku raku heaolu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221520" y="1758960"/>
            <a:ext cx="2828880" cy="4006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0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nst kui ahelakõl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6640" y="10126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stitaju kasutab samu ajumehhanisme, mida karjale allumin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iskond on (juba?) omaette loo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koosneb inimestest nagu loom rakkude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suudab tohutult rohkem, kui iga üksik inime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d konkureerivad: nad neelavad endasse teiste ühiskondade inimesi, nagu loom hammustab teise rakk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kude vahel liiguvad keemilised ja elektrisignaalid: inimeste vahel liiguvad meem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nnad on ühiskonna närvivõrgu sõl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d evolutsioneeruvad, ja kiir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459160" y="4432320"/>
            <a:ext cx="4757760" cy="218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volutsioon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gi evolutsioon: geen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ltuuri evolutsioon: m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tarkvara evolutsio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 evolutsioon: meemid + infra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hisintellekt meie ümb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540560" cy="648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isintellekt on (vist) juba olemas: ühiskond kui suur loom paistab olema intelligent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sellise tehisintellekti jõudu suurendab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jurakkude (inimeste) nutikas organiseerit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jurakkude (inimeste) hea kommunikatsioonivõim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l ei olegi tarvis väga tarku inimes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gem on vaja kuulekaid ja suhtlemisaltis inimes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iskonna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6640" y="10144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imesed kui ra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emid inimeste pe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rastruktuur: teed, külad, raamatud, telefon,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munikatsioonivahendid on peamine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iskonnataseme määraj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t ühiskondade arengut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nevõimeta kari. Meemid liiguvad matkimise t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nevõimega nomaadid. Abstraktsed meemid, levivad kuuldeulatus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iksed maaviljelejad. Meemid levivad grupis kiirel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ri: meemide säilumine, levik väljaspool kõn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ükikunst: meemide massileviku võim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adio ja televisioon: uuel tasemel meemid (episoodilise mälu analoogid) kiire massilevikug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ssiline telef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rne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?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53000" y="4494240"/>
            <a:ext cx="3114720" cy="192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permõistu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0144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 me suudaks luua inimesega võrreldava intellektiga arvuti, siis oleks ta – paratamatult – meist tohutult intelligents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ie loodud intelligentne arvuti suudaks ennast (vähemalt alguses) kiiresti täiustada: leiutades endale täiustusi, mida meie pole osanu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me oskaks sellist arvutit teh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 ei peagi oskama. Ta võib ise tekkid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ipea, kui oleme loonud soods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vupinnase: väga palju võims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etegutsevaid arvuteid ja nende  sidevõrgu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959520" y="2960640"/>
            <a:ext cx="1762200" cy="1724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973920" y="4775040"/>
            <a:ext cx="1770120" cy="161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-25452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981080" y="3352680"/>
            <a:ext cx="449280" cy="525600"/>
            <a:chOff x="1981080" y="3352680"/>
            <a:chExt cx="449280" cy="525600"/>
          </a:xfrm>
        </p:grpSpPr>
        <p:sp>
          <p:nvSpPr>
            <p:cNvPr id="274" name=""/>
            <p:cNvSpPr/>
            <p:nvPr/>
          </p:nvSpPr>
          <p:spPr>
            <a:xfrm>
              <a:off x="1981080" y="335268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5576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84400" y="3727440"/>
              <a:ext cx="249120" cy="50760"/>
            </a:xfrm>
            <a:custGeom>
              <a:avLst/>
              <a:gdLst/>
              <a:ahLst/>
              <a:rect l="l" t="t" r="r" b="b"/>
              <a:pathLst>
                <a:path w="694" h="142">
                  <a:moveTo>
                    <a:pt x="0" y="0"/>
                  </a:moveTo>
                  <a:cubicBezTo>
                    <a:pt x="219" y="141"/>
                    <a:pt x="474" y="141"/>
                    <a:pt x="6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572000" y="1371600"/>
            <a:ext cx="449280" cy="525600"/>
            <a:chOff x="4572000" y="1371600"/>
            <a:chExt cx="449280" cy="525600"/>
          </a:xfrm>
        </p:grpSpPr>
        <p:sp>
          <p:nvSpPr>
            <p:cNvPr id="279" name=""/>
            <p:cNvSpPr/>
            <p:nvPr/>
          </p:nvSpPr>
          <p:spPr>
            <a:xfrm>
              <a:off x="4572000" y="137160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7" y="0"/>
                    <a:pt x="134" y="33"/>
                    <a:pt x="134" y="79"/>
                  </a:cubicBezTo>
                  <a:cubicBezTo>
                    <a:pt x="134" y="126"/>
                    <a:pt x="107" y="161"/>
                    <a:pt x="65" y="161"/>
                  </a:cubicBezTo>
                  <a:cubicBezTo>
                    <a:pt x="26" y="161"/>
                    <a:pt x="0" y="126"/>
                    <a:pt x="0" y="79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43440" y="1528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5" y="0"/>
                  </a:moveTo>
                  <a:cubicBezTo>
                    <a:pt x="107" y="0"/>
                    <a:pt x="135" y="33"/>
                    <a:pt x="135" y="79"/>
                  </a:cubicBezTo>
                  <a:cubicBezTo>
                    <a:pt x="135" y="126"/>
                    <a:pt x="107" y="161"/>
                    <a:pt x="65" y="161"/>
                  </a:cubicBezTo>
                  <a:cubicBezTo>
                    <a:pt x="25" y="161"/>
                    <a:pt x="0" y="126"/>
                    <a:pt x="0" y="79"/>
                  </a:cubicBezTo>
                  <a:cubicBezTo>
                    <a:pt x="0" y="33"/>
                    <a:pt x="25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75320" y="1746360"/>
              <a:ext cx="249120" cy="50760"/>
            </a:xfrm>
            <a:custGeom>
              <a:avLst/>
              <a:gdLst/>
              <a:ahLst/>
              <a:rect l="l" t="t" r="r" b="b"/>
              <a:pathLst>
                <a:path w="691" h="141">
                  <a:moveTo>
                    <a:pt x="0" y="0"/>
                  </a:moveTo>
                  <a:cubicBezTo>
                    <a:pt x="218" y="140"/>
                    <a:pt x="471" y="140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V="1">
            <a:off x="243828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81080" y="3352680"/>
            <a:ext cx="449280" cy="525600"/>
            <a:chOff x="1981080" y="3352680"/>
            <a:chExt cx="449280" cy="525600"/>
          </a:xfrm>
        </p:grpSpPr>
        <p:sp>
          <p:nvSpPr>
            <p:cNvPr id="295" name=""/>
            <p:cNvSpPr/>
            <p:nvPr/>
          </p:nvSpPr>
          <p:spPr>
            <a:xfrm>
              <a:off x="1981080" y="335268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576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4400" y="3727440"/>
              <a:ext cx="249120" cy="50760"/>
            </a:xfrm>
            <a:custGeom>
              <a:avLst/>
              <a:gdLst/>
              <a:ahLst/>
              <a:rect l="l" t="t" r="r" b="b"/>
              <a:pathLst>
                <a:path w="694" h="142">
                  <a:moveTo>
                    <a:pt x="0" y="0"/>
                  </a:moveTo>
                  <a:cubicBezTo>
                    <a:pt x="219" y="141"/>
                    <a:pt x="474" y="141"/>
                    <a:pt x="6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572000" y="1371600"/>
            <a:ext cx="449280" cy="525600"/>
            <a:chOff x="4572000" y="1371600"/>
            <a:chExt cx="449280" cy="525600"/>
          </a:xfrm>
        </p:grpSpPr>
        <p:sp>
          <p:nvSpPr>
            <p:cNvPr id="300" name=""/>
            <p:cNvSpPr/>
            <p:nvPr/>
          </p:nvSpPr>
          <p:spPr>
            <a:xfrm>
              <a:off x="4572000" y="137160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7" y="0"/>
                    <a:pt x="134" y="33"/>
                    <a:pt x="134" y="79"/>
                  </a:cubicBezTo>
                  <a:cubicBezTo>
                    <a:pt x="134" y="126"/>
                    <a:pt x="107" y="161"/>
                    <a:pt x="65" y="161"/>
                  </a:cubicBezTo>
                  <a:cubicBezTo>
                    <a:pt x="26" y="161"/>
                    <a:pt x="0" y="126"/>
                    <a:pt x="0" y="79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3440" y="1528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5" y="0"/>
                  </a:moveTo>
                  <a:cubicBezTo>
                    <a:pt x="107" y="0"/>
                    <a:pt x="135" y="33"/>
                    <a:pt x="135" y="79"/>
                  </a:cubicBezTo>
                  <a:cubicBezTo>
                    <a:pt x="135" y="126"/>
                    <a:pt x="107" y="161"/>
                    <a:pt x="65" y="161"/>
                  </a:cubicBezTo>
                  <a:cubicBezTo>
                    <a:pt x="25" y="161"/>
                    <a:pt x="0" y="126"/>
                    <a:pt x="0" y="79"/>
                  </a:cubicBezTo>
                  <a:cubicBezTo>
                    <a:pt x="0" y="33"/>
                    <a:pt x="25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5320" y="1746360"/>
              <a:ext cx="249120" cy="50760"/>
            </a:xfrm>
            <a:custGeom>
              <a:avLst/>
              <a:gdLst/>
              <a:ahLst/>
              <a:rect l="l" t="t" r="r" b="b"/>
              <a:pathLst>
                <a:path w="691" h="141">
                  <a:moveTo>
                    <a:pt x="0" y="0"/>
                  </a:moveTo>
                  <a:cubicBezTo>
                    <a:pt x="218" y="140"/>
                    <a:pt x="471" y="140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876920" y="2362320"/>
            <a:ext cx="449280" cy="525240"/>
            <a:chOff x="4876920" y="2362320"/>
            <a:chExt cx="449280" cy="525240"/>
          </a:xfrm>
        </p:grpSpPr>
        <p:sp>
          <p:nvSpPr>
            <p:cNvPr id="305" name=""/>
            <p:cNvSpPr/>
            <p:nvPr/>
          </p:nvSpPr>
          <p:spPr>
            <a:xfrm>
              <a:off x="4876920" y="2362320"/>
              <a:ext cx="449280" cy="525240"/>
            </a:xfrm>
            <a:custGeom>
              <a:avLst/>
              <a:gdLst/>
              <a:ahLst/>
              <a:rect l="l" t="t" r="r" b="b"/>
              <a:pathLst>
                <a:path w="1249" h="1460">
                  <a:moveTo>
                    <a:pt x="624" y="0"/>
                  </a:moveTo>
                  <a:cubicBezTo>
                    <a:pt x="978" y="0"/>
                    <a:pt x="1248" y="315"/>
                    <a:pt x="1248" y="730"/>
                  </a:cubicBezTo>
                  <a:cubicBezTo>
                    <a:pt x="1248" y="1143"/>
                    <a:pt x="978" y="1459"/>
                    <a:pt x="624" y="1459"/>
                  </a:cubicBezTo>
                  <a:cubicBezTo>
                    <a:pt x="270" y="1459"/>
                    <a:pt x="0" y="1143"/>
                    <a:pt x="0" y="730"/>
                  </a:cubicBezTo>
                  <a:cubicBezTo>
                    <a:pt x="0" y="315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0688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1600" y="251928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79880" y="2736720"/>
              <a:ext cx="249480" cy="50760"/>
            </a:xfrm>
            <a:custGeom>
              <a:avLst/>
              <a:gdLst/>
              <a:ahLst/>
              <a:rect l="l" t="t" r="r" b="b"/>
              <a:pathLst>
                <a:path w="691" h="142">
                  <a:moveTo>
                    <a:pt x="0" y="0"/>
                  </a:moveTo>
                  <a:cubicBezTo>
                    <a:pt x="219" y="141"/>
                    <a:pt x="471" y="141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95680" y="5486400"/>
            <a:ext cx="449280" cy="525600"/>
            <a:chOff x="4495680" y="5486400"/>
            <a:chExt cx="449280" cy="525600"/>
          </a:xfrm>
        </p:grpSpPr>
        <p:sp>
          <p:nvSpPr>
            <p:cNvPr id="310" name=""/>
            <p:cNvSpPr/>
            <p:nvPr/>
          </p:nvSpPr>
          <p:spPr>
            <a:xfrm>
              <a:off x="4495680" y="548640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260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79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79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7036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79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79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99000" y="5861160"/>
              <a:ext cx="249120" cy="50760"/>
            </a:xfrm>
            <a:custGeom>
              <a:avLst/>
              <a:gdLst/>
              <a:ahLst/>
              <a:rect l="l" t="t" r="r" b="b"/>
              <a:pathLst>
                <a:path w="694" h="141">
                  <a:moveTo>
                    <a:pt x="0" y="0"/>
                  </a:moveTo>
                  <a:cubicBezTo>
                    <a:pt x="219" y="140"/>
                    <a:pt x="474" y="140"/>
                    <a:pt x="6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105520" y="3429000"/>
            <a:ext cx="449280" cy="525600"/>
            <a:chOff x="5105520" y="3429000"/>
            <a:chExt cx="449280" cy="525600"/>
          </a:xfrm>
        </p:grpSpPr>
        <p:sp>
          <p:nvSpPr>
            <p:cNvPr id="315" name=""/>
            <p:cNvSpPr/>
            <p:nvPr/>
          </p:nvSpPr>
          <p:spPr>
            <a:xfrm>
              <a:off x="5105520" y="342900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3548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79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79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80200" y="358632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79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79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08480" y="3803760"/>
              <a:ext cx="249480" cy="50760"/>
            </a:xfrm>
            <a:custGeom>
              <a:avLst/>
              <a:gdLst/>
              <a:ahLst/>
              <a:rect l="l" t="t" r="r" b="b"/>
              <a:pathLst>
                <a:path w="691" h="141">
                  <a:moveTo>
                    <a:pt x="0" y="0"/>
                  </a:moveTo>
                  <a:cubicBezTo>
                    <a:pt x="219" y="140"/>
                    <a:pt x="471" y="140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876920" y="4648320"/>
            <a:ext cx="449280" cy="525240"/>
            <a:chOff x="4876920" y="4648320"/>
            <a:chExt cx="449280" cy="525240"/>
          </a:xfrm>
        </p:grpSpPr>
        <p:sp>
          <p:nvSpPr>
            <p:cNvPr id="320" name=""/>
            <p:cNvSpPr/>
            <p:nvPr/>
          </p:nvSpPr>
          <p:spPr>
            <a:xfrm>
              <a:off x="4876920" y="4648320"/>
              <a:ext cx="449280" cy="525240"/>
            </a:xfrm>
            <a:custGeom>
              <a:avLst/>
              <a:gdLst/>
              <a:ahLst/>
              <a:rect l="l" t="t" r="r" b="b"/>
              <a:pathLst>
                <a:path w="1249" h="1460">
                  <a:moveTo>
                    <a:pt x="624" y="0"/>
                  </a:moveTo>
                  <a:cubicBezTo>
                    <a:pt x="978" y="0"/>
                    <a:pt x="1248" y="315"/>
                    <a:pt x="1248" y="730"/>
                  </a:cubicBezTo>
                  <a:cubicBezTo>
                    <a:pt x="1248" y="1143"/>
                    <a:pt x="978" y="1459"/>
                    <a:pt x="624" y="1459"/>
                  </a:cubicBezTo>
                  <a:cubicBezTo>
                    <a:pt x="270" y="1459"/>
                    <a:pt x="0" y="1143"/>
                    <a:pt x="0" y="730"/>
                  </a:cubicBezTo>
                  <a:cubicBezTo>
                    <a:pt x="0" y="315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0688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51600" y="480528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79880" y="5022720"/>
              <a:ext cx="249480" cy="50760"/>
            </a:xfrm>
            <a:custGeom>
              <a:avLst/>
              <a:gdLst/>
              <a:ahLst/>
              <a:rect l="l" t="t" r="r" b="b"/>
              <a:pathLst>
                <a:path w="691" h="142">
                  <a:moveTo>
                    <a:pt x="0" y="0"/>
                  </a:moveTo>
                  <a:cubicBezTo>
                    <a:pt x="219" y="141"/>
                    <a:pt x="471" y="141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 flipV="1">
            <a:off x="243828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438280" y="2084400"/>
            <a:ext cx="1000440" cy="399600"/>
            <a:chOff x="2438280" y="2084400"/>
            <a:chExt cx="1000440" cy="399600"/>
          </a:xfrm>
        </p:grpSpPr>
        <p:sp>
          <p:nvSpPr>
            <p:cNvPr id="330" name=""/>
            <p:cNvSpPr/>
            <p:nvPr/>
          </p:nvSpPr>
          <p:spPr>
            <a:xfrm>
              <a:off x="2438280" y="2084400"/>
              <a:ext cx="935280" cy="390600"/>
            </a:xfrm>
            <a:prstGeom prst="roundRect">
              <a:avLst>
                <a:gd name="adj" fmla="val 40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438280" y="2084400"/>
              <a:ext cx="1000440" cy="399600"/>
              <a:chOff x="2438280" y="2084400"/>
              <a:chExt cx="1000440" cy="399600"/>
            </a:xfrm>
          </p:grpSpPr>
          <p:sp>
            <p:nvSpPr>
              <p:cNvPr id="332" name=""/>
              <p:cNvSpPr/>
              <p:nvPr/>
            </p:nvSpPr>
            <p:spPr>
              <a:xfrm>
                <a:off x="2438280" y="2084400"/>
                <a:ext cx="930240" cy="385920"/>
              </a:xfrm>
              <a:prstGeom prst="roundRect">
                <a:avLst>
                  <a:gd name="adj" fmla="val 41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2438280" y="2084400"/>
                <a:ext cx="1000440" cy="399600"/>
                <a:chOff x="2438280" y="2084400"/>
                <a:chExt cx="1000440" cy="399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438280" y="2084400"/>
                  <a:ext cx="930240" cy="384120"/>
                </a:xfrm>
                <a:prstGeom prst="roundRect">
                  <a:avLst>
                    <a:gd name="adj" fmla="val 41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2438280" y="2084400"/>
                  <a:ext cx="1000440" cy="399600"/>
                  <a:chOff x="2438280" y="2084400"/>
                  <a:chExt cx="1000440" cy="39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2438280" y="2084400"/>
                    <a:ext cx="928800" cy="382680"/>
                  </a:xfrm>
                  <a:prstGeom prst="roundRect">
                    <a:avLst>
                      <a:gd name="adj" fmla="val 41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438280" y="2084400"/>
                    <a:ext cx="1000440" cy="399600"/>
                    <a:chOff x="2438280" y="2084400"/>
                    <a:chExt cx="1000440" cy="39960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2438280" y="2084400"/>
                      <a:ext cx="927360" cy="38268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495160" y="2084400"/>
                      <a:ext cx="943560" cy="39960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40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93160" y="107784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12760"/>
            <a:ext cx="776772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981080" y="3352680"/>
            <a:ext cx="449280" cy="525600"/>
            <a:chOff x="1981080" y="3352680"/>
            <a:chExt cx="449280" cy="525600"/>
          </a:xfrm>
        </p:grpSpPr>
        <p:sp>
          <p:nvSpPr>
            <p:cNvPr id="345" name=""/>
            <p:cNvSpPr/>
            <p:nvPr/>
          </p:nvSpPr>
          <p:spPr>
            <a:xfrm>
              <a:off x="1981080" y="335268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5576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84400" y="3727440"/>
              <a:ext cx="249120" cy="50760"/>
            </a:xfrm>
            <a:custGeom>
              <a:avLst/>
              <a:gdLst/>
              <a:ahLst/>
              <a:rect l="l" t="t" r="r" b="b"/>
              <a:pathLst>
                <a:path w="694" h="142">
                  <a:moveTo>
                    <a:pt x="0" y="0"/>
                  </a:moveTo>
                  <a:cubicBezTo>
                    <a:pt x="219" y="141"/>
                    <a:pt x="474" y="141"/>
                    <a:pt x="6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243828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422440" y="2084400"/>
            <a:ext cx="909720" cy="399600"/>
            <a:chOff x="2422440" y="2084400"/>
            <a:chExt cx="909720" cy="399600"/>
          </a:xfrm>
        </p:grpSpPr>
        <p:sp>
          <p:nvSpPr>
            <p:cNvPr id="355" name=""/>
            <p:cNvSpPr/>
            <p:nvPr/>
          </p:nvSpPr>
          <p:spPr>
            <a:xfrm>
              <a:off x="2438280" y="2084400"/>
              <a:ext cx="893880" cy="390600"/>
            </a:xfrm>
            <a:prstGeom prst="roundRect">
              <a:avLst>
                <a:gd name="adj" fmla="val 40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2422440" y="2084400"/>
              <a:ext cx="905040" cy="399600"/>
              <a:chOff x="2422440" y="2084400"/>
              <a:chExt cx="905040" cy="399600"/>
            </a:xfrm>
          </p:grpSpPr>
          <p:sp>
            <p:nvSpPr>
              <p:cNvPr id="357" name=""/>
              <p:cNvSpPr/>
              <p:nvPr/>
            </p:nvSpPr>
            <p:spPr>
              <a:xfrm>
                <a:off x="2438280" y="2084400"/>
                <a:ext cx="889200" cy="385920"/>
              </a:xfrm>
              <a:prstGeom prst="roundRect">
                <a:avLst>
                  <a:gd name="adj" fmla="val 41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2422440" y="2084400"/>
                <a:ext cx="903960" cy="399600"/>
                <a:chOff x="2422440" y="2084400"/>
                <a:chExt cx="903960" cy="3996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438280" y="2084400"/>
                  <a:ext cx="885960" cy="384120"/>
                </a:xfrm>
                <a:prstGeom prst="roundRect">
                  <a:avLst>
                    <a:gd name="adj" fmla="val 41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2422440" y="2084400"/>
                  <a:ext cx="903960" cy="399600"/>
                  <a:chOff x="2422440" y="2084400"/>
                  <a:chExt cx="903960" cy="3996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2438280" y="2084400"/>
                    <a:ext cx="884520" cy="382680"/>
                  </a:xfrm>
                  <a:prstGeom prst="roundRect">
                    <a:avLst>
                      <a:gd name="adj" fmla="val 41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2422440" y="2084400"/>
                    <a:ext cx="903960" cy="399600"/>
                    <a:chOff x="2422440" y="2084400"/>
                    <a:chExt cx="903960" cy="39960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2438280" y="2084400"/>
                      <a:ext cx="884520" cy="38268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2422440" y="2084400"/>
                      <a:ext cx="903960" cy="39960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W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66240" y="11620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7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590920" y="518148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579132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791320" y="5486400"/>
            <a:ext cx="452160" cy="528480"/>
            <a:chOff x="5791320" y="5486400"/>
            <a:chExt cx="452160" cy="528480"/>
          </a:xfrm>
        </p:grpSpPr>
        <p:sp>
          <p:nvSpPr>
            <p:cNvPr id="380" name=""/>
            <p:cNvSpPr/>
            <p:nvPr/>
          </p:nvSpPr>
          <p:spPr>
            <a:xfrm>
              <a:off x="57913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212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674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42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8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394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401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V="1">
            <a:off x="4267080" y="4714920"/>
            <a:ext cx="24386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409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267080" y="4028760"/>
            <a:ext cx="381240" cy="399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743200" y="5322960"/>
            <a:ext cx="53352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421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428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435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267080" y="4713120"/>
            <a:ext cx="24386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443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267080" y="4028760"/>
            <a:ext cx="381240" cy="399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743200" y="5322960"/>
            <a:ext cx="53352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volutsio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6520" indent="-3265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ganismi põhiolemuseks on olla isepaljunev masin: iseendast koopiaid tegev koopiamasin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olutsiooni alustalad on triviaalsed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iratud ressursside puhul ei saa lõputult paljune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ohkem koopiaid tegevaid masinaid saab olema rohkem, kui vähem koopiaid tegevaid masina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inus oluline asi on järglaste saam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st evolutsioonist tekib aga iseenesest keerulin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irem evolutsioon annab eelise aeglase e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olutsioon ise evolutsioneer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ie organismides on sees kiht-kihilt tekkinud “evolutsioonikiirendid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590920" y="27284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80200" y="1162080"/>
            <a:ext cx="35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905120" y="2730600"/>
            <a:ext cx="228600" cy="939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37240" y="1219320"/>
            <a:ext cx="15238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43828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14600" y="2209680"/>
            <a:ext cx="3352680" cy="1067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7315200" y="21337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1981080" y="19051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5486400" y="47242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095880" y="32767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1600200" y="3733920"/>
            <a:ext cx="449280" cy="525240"/>
            <a:chOff x="1600200" y="3733920"/>
            <a:chExt cx="449280" cy="525240"/>
          </a:xfrm>
        </p:grpSpPr>
        <p:sp>
          <p:nvSpPr>
            <p:cNvPr id="481" name=""/>
            <p:cNvSpPr/>
            <p:nvPr/>
          </p:nvSpPr>
          <p:spPr>
            <a:xfrm>
              <a:off x="1600200" y="3733920"/>
              <a:ext cx="449280" cy="525240"/>
            </a:xfrm>
            <a:custGeom>
              <a:avLst/>
              <a:gdLst/>
              <a:ahLst/>
              <a:rect l="l" t="t" r="r" b="b"/>
              <a:pathLst>
                <a:path w="1249" h="1460">
                  <a:moveTo>
                    <a:pt x="624" y="0"/>
                  </a:moveTo>
                  <a:cubicBezTo>
                    <a:pt x="978" y="0"/>
                    <a:pt x="1248" y="315"/>
                    <a:pt x="1248" y="730"/>
                  </a:cubicBezTo>
                  <a:cubicBezTo>
                    <a:pt x="1248" y="1143"/>
                    <a:pt x="978" y="1459"/>
                    <a:pt x="624" y="1459"/>
                  </a:cubicBezTo>
                  <a:cubicBezTo>
                    <a:pt x="270" y="1459"/>
                    <a:pt x="0" y="1143"/>
                    <a:pt x="0" y="730"/>
                  </a:cubicBezTo>
                  <a:cubicBezTo>
                    <a:pt x="0" y="315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305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7" y="0"/>
                    <a:pt x="134" y="33"/>
                    <a:pt x="134" y="83"/>
                  </a:cubicBezTo>
                  <a:cubicBezTo>
                    <a:pt x="134" y="126"/>
                    <a:pt x="107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7164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5" y="0"/>
                  </a:moveTo>
                  <a:cubicBezTo>
                    <a:pt x="107" y="0"/>
                    <a:pt x="135" y="33"/>
                    <a:pt x="135" y="83"/>
                  </a:cubicBezTo>
                  <a:cubicBezTo>
                    <a:pt x="135" y="126"/>
                    <a:pt x="107" y="161"/>
                    <a:pt x="65" y="161"/>
                  </a:cubicBezTo>
                  <a:cubicBezTo>
                    <a:pt x="25" y="161"/>
                    <a:pt x="0" y="126"/>
                    <a:pt x="0" y="83"/>
                  </a:cubicBezTo>
                  <a:cubicBezTo>
                    <a:pt x="0" y="33"/>
                    <a:pt x="25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03520" y="4108320"/>
              <a:ext cx="249120" cy="50760"/>
            </a:xfrm>
            <a:custGeom>
              <a:avLst/>
              <a:gdLst/>
              <a:ahLst/>
              <a:rect l="l" t="t" r="r" b="b"/>
              <a:pathLst>
                <a:path w="691" h="142">
                  <a:moveTo>
                    <a:pt x="0" y="0"/>
                  </a:moveTo>
                  <a:cubicBezTo>
                    <a:pt x="218" y="141"/>
                    <a:pt x="471" y="141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 flipV="1">
            <a:off x="2057400" y="3720600"/>
            <a:ext cx="3886200" cy="101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540120" y="2895480"/>
            <a:ext cx="93996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7454880" y="30481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006960" y="4419720"/>
            <a:ext cx="124488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4120" y="1676520"/>
            <a:ext cx="8380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493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496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837560" y="2830320"/>
              <a:ext cx="12060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54800" y="32634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505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665360" y="3516120"/>
              <a:ext cx="12060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182600" y="39492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514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960640" y="549756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2478240" y="5930640"/>
              <a:ext cx="16812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523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4865760" y="389736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4383000" y="433044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532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6084720" y="5649840"/>
              <a:ext cx="1209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602320" y="6082920"/>
              <a:ext cx="16812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542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548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553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558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flipV="1">
            <a:off x="1371600" y="59342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86400" y="4103280"/>
            <a:ext cx="2057400" cy="95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562720" y="3114360"/>
            <a:ext cx="990360" cy="4762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1590480" y="4408560"/>
            <a:ext cx="32364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503080" y="3724200"/>
            <a:ext cx="100980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733840" y="4343400"/>
            <a:ext cx="9331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428560" y="2971800"/>
            <a:ext cx="7808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938160" y="576360"/>
            <a:ext cx="7770960" cy="320400"/>
            <a:chOff x="938160" y="576360"/>
            <a:chExt cx="7770960" cy="320400"/>
          </a:xfrm>
        </p:grpSpPr>
        <p:sp>
          <p:nvSpPr>
            <p:cNvPr id="575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8707320" y="576360"/>
              <a:ext cx="180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579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584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589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594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86400" y="4103280"/>
            <a:ext cx="2057400" cy="95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486400" y="3191040"/>
            <a:ext cx="990720" cy="475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1590480" y="4408560"/>
            <a:ext cx="32364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2503080" y="3724200"/>
            <a:ext cx="100980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33840" y="4343400"/>
            <a:ext cx="9331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428560" y="2971800"/>
            <a:ext cx="7808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607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609" name=""/>
              <p:cNvSpPr/>
              <p:nvPr/>
            </p:nvSpPr>
            <p:spPr>
              <a:xfrm flipV="1">
                <a:off x="1627200" y="32922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1147680" y="3648240"/>
                <a:ext cx="168480" cy="19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2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634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636" name=""/>
              <p:cNvSpPr/>
              <p:nvPr/>
            </p:nvSpPr>
            <p:spPr>
              <a:xfrm flipV="1">
                <a:off x="2770200" y="53496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2290680" y="5705640"/>
                <a:ext cx="168480" cy="19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661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663" name=""/>
              <p:cNvSpPr/>
              <p:nvPr/>
            </p:nvSpPr>
            <p:spPr>
              <a:xfrm flipV="1">
                <a:off x="4751280" y="40543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4272120" y="44082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6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688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6122880" y="54259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643720" y="57798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3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15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17" name=""/>
              <p:cNvSpPr/>
              <p:nvPr/>
            </p:nvSpPr>
            <p:spPr>
              <a:xfrm flipV="1">
                <a:off x="4751280" y="40543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272120" y="44082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0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742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744" name=""/>
              <p:cNvSpPr/>
              <p:nvPr/>
            </p:nvSpPr>
            <p:spPr>
              <a:xfrm flipV="1">
                <a:off x="7570800" y="26827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091280" y="3036600"/>
                <a:ext cx="1684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7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7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936720" y="572760"/>
            <a:ext cx="7772400" cy="320760"/>
            <a:chOff x="936720" y="572760"/>
            <a:chExt cx="7772400" cy="320760"/>
          </a:xfrm>
        </p:grpSpPr>
        <p:sp>
          <p:nvSpPr>
            <p:cNvPr id="771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707320" y="572760"/>
              <a:ext cx="180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775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780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781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786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791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486400" y="4101840"/>
            <a:ext cx="2057400" cy="96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486400" y="3191040"/>
            <a:ext cx="990720" cy="475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1589040" y="4408560"/>
            <a:ext cx="32544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2503080" y="3722760"/>
            <a:ext cx="100980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2733840" y="4341960"/>
            <a:ext cx="93312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427120" y="2970360"/>
            <a:ext cx="78264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806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892840" y="56293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413320" y="59860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813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818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823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549440" y="319248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1069920" y="35478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830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835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9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840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2843280" y="54007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363760" y="57574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847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852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6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857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672080" y="387828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192560" y="42336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864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869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3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874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493040" y="28861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7013520" y="32428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881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886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evolutsioon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0144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ne mehhanism meemide evolutsiooni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hepealne iseseisev elu arvutit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häkkimistarkvara evolutsio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 kui tarkvara-olendite ühiskondade hul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760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rhistlikud teesid: inimene ja ühis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6640" y="988920"/>
            <a:ext cx="7848720" cy="58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on suur omaette lo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ene on ühiskonna jaoks tähtsusetu rak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vahetab inimesed arvutite vastu sujuvalt välj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olutsiooni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ese kui liigi evolutsioon on pidurdun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 evolutsioon on kiirenen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k-inimese manipuleerimise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ene on robot, mis on programmeeritud ühiskonnale allum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motsioonid on hoovad, millega inimesi ühiskonna poolt manipuleeritak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amus levinud põhimõtteid ja eelistusi on ühiskonna poolt ettesöödetud pettu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ngulaarsushüpotee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014480"/>
            <a:ext cx="7848720" cy="59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tuse ide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Techno-Rapture. A black hole in the Extropian worldview whose gravity is so intense that no light can be shed on what lies beyond it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üpotees is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fty thousand years ago with the rise of Homo sapiens sapie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n thousand years ago with the invention of civiliza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ve hundred years ago with the invention of the printing pres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fty years ago with the invention of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 less than thirty years, it will en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ngulaarsushüpotees pildi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0144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a kiirenev kasv viib paratamatult järsu murranguni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2954160" y="2535120"/>
            <a:ext cx="3189600" cy="347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temaatika ana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 on triviaalsed:  0,  | ,  ||,   |||,   ||||,    |||||,  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 liitmine on ka päris lihtne teh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st saab aga ehitada murrud, reaalarvud, kvaternioonid, ja mistahes muud algebralised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 kohta käivate teoreemide lahendamiseks ei saa olla algoritm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ga matemaatikat ei saagi lõplikult aksiomatiseeri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 matemaatika korrektsust ei saagi tõestada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useks on alati tõestusteta usk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keerulisemaid tulemusi tahame, seda rohkem peame uskum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st matemaatikast saab ehitada kuitahes keeruli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temaatika ning lõpmatuse stru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3840"/>
                <a:tab algn="l" pos="581040"/>
                <a:tab algn="l" pos="1038240"/>
                <a:tab algn="l" pos="1495440"/>
                <a:tab algn="l" pos="1952640"/>
                <a:tab algn="l" pos="2409840"/>
                <a:tab algn="l" pos="2867040"/>
                <a:tab algn="l" pos="3324240"/>
                <a:tab algn="l" pos="3781440"/>
                <a:tab algn="l" pos="4238640"/>
                <a:tab algn="l" pos="4695840"/>
                <a:tab algn="l" pos="5153040"/>
                <a:tab algn="l" pos="5610240"/>
                <a:tab algn="l" pos="6067440"/>
                <a:tab algn="l" pos="6524640"/>
                <a:tab algn="l" pos="6981840"/>
                <a:tab algn="l" pos="7439040"/>
                <a:tab algn="l" pos="7896240"/>
                <a:tab algn="l" pos="8353440"/>
                <a:tab algn="l" pos="8810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õestatud, et teatud punktis läheb lõpmatuse 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3840"/>
                <a:tab algn="l" pos="581040"/>
                <a:tab algn="l" pos="1038240"/>
                <a:tab algn="l" pos="1495440"/>
                <a:tab algn="l" pos="1952640"/>
                <a:tab algn="l" pos="2409840"/>
                <a:tab algn="l" pos="2867040"/>
                <a:tab algn="l" pos="3324240"/>
                <a:tab algn="l" pos="3781440"/>
                <a:tab algn="l" pos="4238640"/>
                <a:tab algn="l" pos="4695840"/>
                <a:tab algn="l" pos="5153040"/>
                <a:tab algn="l" pos="5610240"/>
                <a:tab algn="l" pos="6067440"/>
                <a:tab algn="l" pos="6524640"/>
                <a:tab algn="l" pos="6981840"/>
                <a:tab algn="l" pos="7439040"/>
                <a:tab algn="l" pos="7896240"/>
                <a:tab algn="l" pos="8353440"/>
                <a:tab algn="l" pos="8810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rjeldamatult keeruliseks, otseses mõttes: ei saagi kirjeldada (mitte lihtsalt, et ei osata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286160" y="5035680"/>
            <a:ext cx="1800" cy="10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299120" y="4510080"/>
            <a:ext cx="6220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15920" y="4606560"/>
            <a:ext cx="55404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60920" y="4462200"/>
            <a:ext cx="58572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265280" y="4460400"/>
            <a:ext cx="577800" cy="1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632120" y="4106880"/>
            <a:ext cx="26028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921200" y="4363920"/>
            <a:ext cx="62244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749760" y="4484520"/>
            <a:ext cx="1350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057480" y="4352400"/>
            <a:ext cx="6508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14720" y="4327200"/>
            <a:ext cx="1001520" cy="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665080" y="3949560"/>
            <a:ext cx="46836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519880" y="3911760"/>
            <a:ext cx="96840" cy="46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495760" y="3985920"/>
            <a:ext cx="58608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95720" y="3862440"/>
            <a:ext cx="56520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689360" y="3765240"/>
            <a:ext cx="6048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765600" y="3557160"/>
            <a:ext cx="35712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38680" y="3338640"/>
            <a:ext cx="73188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516200" y="5873760"/>
            <a:ext cx="3918240" cy="296640"/>
            <a:chOff x="4516200" y="5873760"/>
            <a:chExt cx="3918240" cy="296640"/>
          </a:xfrm>
        </p:grpSpPr>
        <p:sp>
          <p:nvSpPr>
            <p:cNvPr id="79" name=""/>
            <p:cNvSpPr/>
            <p:nvPr/>
          </p:nvSpPr>
          <p:spPr>
            <a:xfrm>
              <a:off x="4518000" y="5873760"/>
              <a:ext cx="3421080" cy="266760"/>
            </a:xfrm>
            <a:prstGeom prst="roundRect">
              <a:avLst>
                <a:gd name="adj" fmla="val 5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6200" y="5873760"/>
              <a:ext cx="3918240" cy="296640"/>
            </a:xfrm>
            <a:prstGeom prst="roundRect">
              <a:avLst>
                <a:gd name="adj" fmla="val 5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Algpunkt: täisarvude lõpm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38520" y="5067360"/>
            <a:ext cx="4005000" cy="296640"/>
            <a:chOff x="4538520" y="5067360"/>
            <a:chExt cx="4005000" cy="296640"/>
          </a:xfrm>
        </p:grpSpPr>
        <p:sp>
          <p:nvSpPr>
            <p:cNvPr id="82" name=""/>
            <p:cNvSpPr/>
            <p:nvPr/>
          </p:nvSpPr>
          <p:spPr>
            <a:xfrm>
              <a:off x="4543560" y="5067360"/>
              <a:ext cx="3487680" cy="266760"/>
            </a:xfrm>
            <a:prstGeom prst="roundRect">
              <a:avLst>
                <a:gd name="adj" fmla="val 5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38520" y="5067360"/>
              <a:ext cx="4005000" cy="296640"/>
            </a:xfrm>
            <a:prstGeom prst="roundRect">
              <a:avLst>
                <a:gd name="adj" fmla="val 5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unkt 2: Reaalarvude lõpm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994680" y="2967120"/>
            <a:ext cx="2668320" cy="887760"/>
            <a:chOff x="994680" y="2967120"/>
            <a:chExt cx="2668320" cy="887760"/>
          </a:xfrm>
        </p:grpSpPr>
        <p:sp>
          <p:nvSpPr>
            <p:cNvPr id="85" name=""/>
            <p:cNvSpPr/>
            <p:nvPr/>
          </p:nvSpPr>
          <p:spPr>
            <a:xfrm>
              <a:off x="1001880" y="2967120"/>
              <a:ext cx="2363760" cy="79524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4680" y="2967120"/>
              <a:ext cx="2668320" cy="88776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Lõpmatuse struktu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läheb kasv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üha keerukamaks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928800" y="1441440"/>
            <a:ext cx="6878520" cy="795240"/>
            <a:chOff x="928800" y="1441440"/>
            <a:chExt cx="6878520" cy="795240"/>
          </a:xfrm>
        </p:grpSpPr>
        <p:sp>
          <p:nvSpPr>
            <p:cNvPr id="88" name=""/>
            <p:cNvSpPr/>
            <p:nvPr/>
          </p:nvSpPr>
          <p:spPr>
            <a:xfrm>
              <a:off x="928800" y="1441440"/>
              <a:ext cx="6878520" cy="79524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28800" y="1441440"/>
              <a:ext cx="6878520" cy="79524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e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en on enese-kopeerimismasina kopeerimisprogramm ehk ehitusjooni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 võime vabalt mõelda nii, et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imed, inimesed ja loomad on geenide loodud robotid, mille ainus eesmärk on geene kaitsta ja edasi kanda: tagada geenidele hea keskkon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Dawkins: “selfish gene”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imed on hästikindlustatud, staatilised kaitserobo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mad on liikuvad, ohtlikust olukorrast põgeneda suutvad robot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95440" y="1623960"/>
            <a:ext cx="1546200" cy="1697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11480" y="1405080"/>
            <a:ext cx="836640" cy="928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011480" y="2320920"/>
            <a:ext cx="836640" cy="9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830920" y="1454040"/>
            <a:ext cx="568440" cy="51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745240" y="2041560"/>
            <a:ext cx="568080" cy="511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794200" y="2577960"/>
            <a:ext cx="568440" cy="511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745240" y="2041560"/>
            <a:ext cx="568080" cy="51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965920" y="3067200"/>
            <a:ext cx="568080" cy="511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enid ja meem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7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on idee (eelistus, teadmine, viisijupp, programm vms), mida inimesed edasi paljundavad (räägivad teistele ka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ide looduslik valik (Dawkins, Blackmore)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amust meeme edasi ei räägita, nad surevad välj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likke” meeme räägitakse edasi: nad paljun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ju ja kommunikatsiooni mahud on piiratud: meemid võistlevad nende ressursside päras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on samuti isepaljunev koopiamasin, nagu ka geen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elab ainult mõistuslikus aj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kasutab aju nagu materjali (parasiit?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on teine teadaolev isepaljunev “asi” peale gee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id saavad eksisteerida vaid ühiskonnas (karjas, grupis ...) kus indiviidid neid edasi kommunikeeri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otsiobi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1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gruppi/karja/ühiskonda  evolutsioo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enurga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kui omaette loo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akeral on palju ühiskondi: nad konkureerivad üksteiseg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volutsioonipsühh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632880"/>
            <a:ext cx="7848720" cy="62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itame karjaliikmete psühholoogiat puhta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olutsioonilisest vaatenurga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süühika töötab mingil moel just seepärast, et see annab eelise järglaste saamisel ja evolutsiooni kiirendamis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iste iluideaal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ma laste ja sugulaste arma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õivamo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 j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67400" y="3932280"/>
            <a:ext cx="1482840" cy="234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